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2EB-0E65-419C-8B07-87A95109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585-5CD8-4D5D-A65A-85293F7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5BE-C708-42B4-A52A-3716E252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981-5BAB-41DA-BC6B-4BD033CD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5B59-A985-42B7-978D-E8FB523F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35D6-ED57-4CF1-9E24-48DC328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C14-E648-4A9A-92F1-47195C88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D02-275C-4A35-8D32-B7D27AFB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0FCB-A5C0-4D8D-BC40-246A7AEE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667-E741-4349-993B-AE1F2477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BDF-D1AD-48A3-8DCB-5EBFB23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E0B-4E98-482C-9C85-0793F4F0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149-E43D-46B2-BC50-531961D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7EA4-9922-4661-9DA5-E2A4F84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F3D-302C-4107-B7BC-B4D6B51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150-5EC6-45C8-AF6C-D5EB6B49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DC7-29FC-4D7A-B5BB-64578883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B1ED-D20E-44F3-8B8C-7805DA04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46A2-8D69-4938-84DF-1AE9D874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5EEF-88DC-4317-98A3-11E386B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D6A0-CFB4-43A1-A3BD-3C74B5B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9F26-1AB1-42DD-863F-D71987B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956-4096-430F-AA30-0AC6143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2A83-1D42-41FE-85F1-B086C33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A3F3-2DE4-4505-9E6C-A68A65D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38F6-2AEA-4BE8-A573-FFB54EFE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7155-94AD-41C0-B19F-A9C8630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5C70-F51D-4326-B968-AB0FB06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3444-1093-41E3-86DB-42E1314D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ACD0-3C98-415D-A0ED-D6D46B5D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A959-223F-4C28-8C62-E2FA4F6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2F6F-C106-4390-90F2-EB849A00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D636-78FE-4E9A-BF56-092433C8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BD2-31A8-4D39-82D7-5D7FFD4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BD2B-8B4E-470B-835A-2973F9C9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EE51-4BE9-41BC-B617-923E3E3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3353-C36B-4C3A-A721-E698EBC2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DF11-2190-4EB4-B01F-6543195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E46F-5999-42B9-B07B-D8908939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36A6-DB1A-4522-9939-0765B2A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8E04-0E05-4E1B-95FE-4137667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60E4-382C-4F3C-AE4C-74A43229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1603-9633-4D0A-AA7A-C191A70A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311E-D221-43BF-BC45-175B0BA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506-32C1-48A6-804A-A3B13B0D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5428-45D1-463F-81A9-545682B1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E158-CABF-44B3-BCD5-F2FCAE9F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55E4-C3D7-4FBE-92F7-1C973E98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140E7-AC28-4EA6-8378-CBA50BA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8841E-3E96-42FE-A9EA-2253FD0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061A-6929-4240-87CD-CF223AC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BDE5-8210-4D54-A1DC-E95DF96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203A-2747-4320-95D5-3637AC1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21CA-CB75-46AE-AC7D-EF4D4201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0649-236F-4D0F-A637-CC6592B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DF6-2BE8-45D0-8090-54D6CB5D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7C5B-41F0-4D12-AE31-6D4BEF7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2DC-A16D-4B58-826A-B02DB23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6AE-99EF-4C54-BEC1-589F915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59F-FCC3-4B7F-9690-A092614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4A35-CE0E-4D4D-B486-9A6BA4CB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8D75-AF32-44AA-A6EB-BC1A58EE1BF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93A-A543-4F73-B48D-340FF7A8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2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3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6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4E7-B50F-459C-B5DF-FA4AE50915A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7DF-C1E2-4BCD-A8B1-CF496D2ED9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lanningyourdreams.org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2960" y="3139920"/>
            <a:ext cx="76420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Reports Due: 11/11/11 (FRI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working on three career assess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ree assessmen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Career Search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Skill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Work Values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ade Requir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e Requirements: (150 poin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t out the results (one page results summary) for the three KUDER Assessments (50 points per repor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DER Registration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 all need to register as a new student on the webs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planningyourdreams.org/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DER N Activation Co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Code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3334858GC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wildca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timeline_photo_1985.PNG"/>
          <p:cNvPicPr/>
          <p:nvPr/>
        </p:nvPicPr>
        <p:blipFill>
          <a:blip r:embed="rId1"/>
          <a:stretch/>
        </p:blipFill>
        <p:spPr>
          <a:xfrm>
            <a:off x="7621560" y="1219320"/>
            <a:ext cx="1495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6:33:57Z</dcterms:created>
  <dc:creator>default</dc:creator>
  <dc:description/>
  <dc:language>en-US</dc:language>
  <cp:lastModifiedBy>SysAdmin</cp:lastModifiedBy>
  <dcterms:modified xsi:type="dcterms:W3CDTF">2011-11-08T15:14:06Z</dcterms:modified>
  <cp:revision>55</cp:revision>
  <dc:subject/>
  <dc:title>KUDER Career Assessments</dc:title>
</cp:coreProperties>
</file>